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A99-274B-4EEA-AF0E-09EC8B9B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B16-9487-4489-ADED-5883E02D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59DB-F13F-4CE0-961C-BB7AA42E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D354-3D96-4220-A3F2-0B42719E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1AC6-BBAF-49B8-B1C3-0FCFA995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6632-3FED-4EE4-B574-55A83402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EDA4-45CE-43B5-B36F-32E15043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D8F-7B06-4116-BB45-33918036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C49B-32F6-4781-B4E6-346909A2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4D4C-3FE2-4BAE-8CE7-681F0849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1C24-37B3-4B3A-9748-EA23C26B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AD20-85BB-49EA-A293-FD0E5BFE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64C1-E499-42A4-82B7-00D6A2880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s. Justice’s Class Cou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2:54:28Z</dcterms:created>
  <dc:creator>Sandra Roby</dc:creator>
  <dc:description/>
  <dc:language>en-US</dc:language>
  <cp:lastModifiedBy>Sandra Roby</cp:lastModifiedBy>
  <dcterms:modified xsi:type="dcterms:W3CDTF">2008-01-16T02:55:11Z</dcterms:modified>
  <cp:revision>1</cp:revision>
  <dc:subject/>
  <dc:title>Mrs. Justice’s Class Counts</dc:title>
</cp:coreProperties>
</file>